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7E4-EDFC-4A9A-B009-C8A832A3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84F-5371-4F56-9A07-AD544AE3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107-E0BE-42E5-B985-F2D07572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174-1BCE-48A7-A7EB-02BA486A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216-0E23-46E0-B3DE-3BCB50A4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FF3-BF80-41D0-B851-AF053C9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ABB-5AEB-4913-AA8F-0507FD07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9FA-00F7-4952-BAD6-550042D6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1EA-9B87-4C51-96EB-60E0D465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7AE-8984-445E-8A90-7B0DC6E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704-3C65-4D16-985A-04EBA38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692-9D3F-45C5-90AE-531009F1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AA13-32EE-4F5C-8B14-D5022F3B7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quistadors and Pre 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: Jack and Ma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location was in Central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Capital was Tenochitlan (Built in the middle of a lak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olytheistic (Believed in many go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ook other tribes and used them as slaves and human sacrif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ruler was Montezu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3276720" cy="224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41920" y="624780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sitemaker.umich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location was the Mexican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did not have as much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d slaves who could sometimes gain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4360" y="60951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o.missouristate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3505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location was South America, Andes Mts.,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capital was Cuz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polytheistic (belief in many go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acticed animal sacrifice and on special human sacrifice (childr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323712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22200" y="56379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.fullerton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He was a Conquistador (someone who conquers [takes over by force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Montezuma thought that Cortez was Quetzacoatl (Pale skinned god who was supposed to return to the Aztecs at the same time Cortez di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He took Montezuma ho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He destroyed Tenochitlan and built Mexico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952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933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Conquistador (someone who conquers [takes over by force]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quered the Incas when the Incas were fighting a civil war (A war fought between two parts of the same count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rdered the Incas to fill a room with his gold and si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098880" cy="4152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40480" y="57142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How did the Spanish explorers and conquistadors change Central and South America for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200400"/>
            <a:ext cx="716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oday, most of Central and South America speaks Spanish and is Christian.  They no longer worship their native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46:23Z</dcterms:created>
  <dc:creator>jklib</dc:creator>
  <dc:description/>
  <dc:language>en-US</dc:language>
  <cp:lastModifiedBy>jklib</cp:lastModifiedBy>
  <dcterms:modified xsi:type="dcterms:W3CDTF">2011-11-29T14:35:10Z</dcterms:modified>
  <cp:revision>8</cp:revision>
  <dc:subject/>
  <dc:title>Slide 1</dc:title>
</cp:coreProperties>
</file>